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219-2380-4010-BCE8-FB247134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F69-26CB-44E9-BA26-184D7988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74B-AB1F-4778-8543-259C7712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2FF-E873-41D8-AF97-24163CE1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E1F3-EA9B-4E89-A86E-FE66A7C2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A9CF-198A-40B2-9F46-6659B40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8F2F-7640-4981-87B9-B794430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3607-9973-4EE3-9543-90DDC856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C74F-3FB3-4A02-8225-7C691A2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3931-504B-47BC-850F-D4F3BA8D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39F5-DF57-44BD-9011-1E8E981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4FC-EF90-4740-A49F-A79DDA7A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59E0-1AFA-4EB2-BDCB-99611D8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6830-1B92-4680-AE6C-7D1422A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93BC-9EDC-467E-9028-B679519C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F7D6-5AE6-46CD-8474-37829D97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17CE-4CF3-4D68-A21B-C22BB190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E8E-AECE-42C9-8B92-EF9662DC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3ED-A580-48A4-A254-C7F349ED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1B9-2004-4CB4-B82E-19B046A7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042-844C-4299-ABA9-6FDAA3F0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5AD-2BC6-4F8F-9C32-ACDF385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15B-4A56-4738-8231-DA941B98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085-5344-4D93-ACED-ED81D164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2108-31B7-4477-B062-6443A98131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E079-24BE-4474-952F-FAE1678268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pirituallysmart.com/images/bush_bow.jpg&amp;imgrefurl=http://www.thecitizen.com/~citizen0/node/36108&amp;usg=__ZCjXft5wMJlgu4l6cDcC-fuwmCM=&amp;h=404&amp;w=450&amp;sz=120&amp;hl=EN&amp;start=63&amp;tbnid=F8g9xAfsrB-A_M:&amp;tbnh=114&amp;tbnw=127&amp;prev=/images?q=bow+curtsy&amp;gbv=2&amp;ndsp=18&amp;hl=EN&amp;sa=N&amp;start=54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vet.ed.ac.uk/dhhps/images/Cow%2520Photos/cow%2520grazing.jpg&amp;imgrefurl=http://themaplethree.blogspot.com/2007_08_01_archive.html&amp;usg=__CHcxQyaViMV7UnuryIHL77Okzh0=&amp;h=957&amp;w=832&amp;sz=154&amp;hl=EN&amp;start=14&amp;tbnid=UzOcsJw14f-zSM:&amp;tbnh=148&amp;tbnw=129&amp;prev=/images?q=cow&amp;gbv=2&amp;hl=E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dalehousefarm.com/images/pigs/barbara.jpg&amp;imgrefurl=http://www.dalehousefarm.com/Pigs.shtml&amp;usg=__hIb7C16JXFNrp8Y_Dhz3V4dj3Og=&amp;h=375&amp;w=500&amp;sz=35&amp;hl=EN&amp;start=19&amp;tbnid=cgsYtis0Kr5qNM:&amp;tbnh=98&amp;tbnw=130&amp;prev=/images?q=sowpig&amp;gbv=2&amp;ndsp=18&amp;hl=EN&amp;sa=N&amp;start=18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www.petplanet.co.uk/petplanet/images/breeds/chow_rough.jpg&amp;imgrefurl=http://www.petplanet.co.uk/petplanet/breeds/Chow_Chow_(Rough).htm&amp;usg=__pKqCgv44Jg3GmDI9adXGfaFYT4Y=&amp;h=350&amp;w=400&amp;sz=132&amp;hl=EN&amp;start=2&amp;tbnid=911eGTCQINu4DM:&amp;tbnh=109&amp;tbnw=124&amp;prev=/images?q=chow&amp;gbv=2&amp;hl=EN" TargetMode="External"/><Relationship Id="rId8" Type="http://schemas.openxmlformats.org/officeDocument/2006/relationships/image" Target="../media/image44.jpeg"/><Relationship Id="rId9" Type="http://schemas.openxmlformats.org/officeDocument/2006/relationships/hyperlink" Target="http://images.google.com/imgres?imgurl=http://www.longliveyourdog.com/getresource.axd?category=product&amp;id=211&amp;imgrefurl=http://www.longliveyourdog.com/products/dogchowcompletenutrition.aspx&amp;usg=__45PVj418ULU2XYibP5aKoSEdpSY=&amp;h=252&amp;w=168&amp;sz=50&amp;hl=EN&amp;start=3&amp;tbnid=HZk5pyAbQgFHJM:&amp;tbnh=111&amp;tbnw=74&amp;prev=/images?q=dog+chow&amp;gbv=2&amp;hl=EN" TargetMode="External"/><Relationship Id="rId10" Type="http://schemas.openxmlformats.org/officeDocument/2006/relationships/image" Target="../media/image45.jpeg"/><Relationship Id="rId11" Type="http://schemas.openxmlformats.org/officeDocument/2006/relationships/hyperlink" Target="http://images.google.com/imgres?imgurl=http://1.bp.blogspot.com/_MCdf_WU6IDU/Sa6kVkSKafI/AAAAAAAAAHg/Cn1cBC6tBHY/s320/Brow3&amp;imgrefurl=http://www.makeupbycamilla.com/2009/03/brow-tutorial.html&amp;usg=__j0nthRMNgUdsS-bEKtZ92uFoiJA=&amp;h=320&amp;w=294&amp;sz=11&amp;hl=EN&amp;start=11&amp;tbnid=uDqRl1_vXQYqRM:&amp;tbnh=118&amp;tbnw=108&amp;prev=/images?q=brow&amp;gbv=2&amp;hl=EN" TargetMode="External"/><Relationship Id="rId12" Type="http://schemas.openxmlformats.org/officeDocument/2006/relationships/image" Target="../media/image46.jpeg"/><Relationship Id="rId13" Type="http://schemas.openxmlformats.org/officeDocument/2006/relationships/hyperlink" Target="http://images.google.com/imgres?imgurl=http://www.bighambrothers.com/one-pass-plow-03.jpg&amp;imgrefurl=http://www.bighambrothers.com/one-pass-plow.htm&amp;usg=__kVZ1jU97ozqvNBeqy-oQZeVIhiQ=&amp;h=306&amp;w=444&amp;sz=38&amp;hl=EN&amp;start=21&amp;tbnid=bRk_Z9YHZHDhCM:&amp;tbnh=88&amp;tbnw=127&amp;prev=/images?q=plow&amp;gbv=2&amp;ndsp=18&amp;hl=EN&amp;sa=N&amp;start=18" TargetMode="External"/><Relationship Id="rId14" Type="http://schemas.openxmlformats.org/officeDocument/2006/relationships/image" Target="../media/image47.jpeg"/><Relationship Id="rId15" Type="http://schemas.openxmlformats.org/officeDocument/2006/relationships/hyperlink" Target="http://images.google.com/imgres?imgurl=http://www.chatstractors.com/2004_implements/041091_hd_steel_beam_walking%2520plow.jpg&amp;imgrefurl=http://www.chatstractors.com/041091_steel_beam_walking_plow.htm&amp;usg=__uMqmgYe4MKkz7wCXRLDa4_iL-0w=&amp;h=480&amp;w=640&amp;sz=57&amp;hl=EN&amp;start=28&amp;tbnid=uXXTaCXIY-ItNM:&amp;tbnh=103&amp;tbnw=137&amp;prev=/images?q=plow&amp;gbv=2&amp;ndsp=18&amp;hl=EN&amp;sa=N&amp;start=18" TargetMode="External"/><Relationship Id="rId16" Type="http://schemas.openxmlformats.org/officeDocument/2006/relationships/image" Target="../media/image48.jpeg"/><Relationship Id="rId17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talystservices.co.uk/assets/images/RHborder_fade.gif&amp;imgrefurl=http://www.catalystservices.co.uk/&amp;usg=__VmSFVdUjSH9GWx6LqGZ6nMrDItE=&amp;h=868&amp;w=350&amp;sz=68&amp;hl=EN&amp;start=3&amp;tbnid=zZE5dDUr5jsm9M:&amp;tbnh=145&amp;tbnw=58&amp;prev=/images?q=fade&amp;gbv=2&amp;hl=EN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images.google.com/imgres?imgurl=http://www.valuablestones.com/jade%2520beads.jpg&amp;imgrefurl=http://www.valuablestones.com/&amp;usg=__VYzrrelglXUAcBAHV_f-TolcyrI=&amp;h=300&amp;w=300&amp;sz=32&amp;hl=EN&amp;start=6&amp;tbnid=R4ViK41DGfiwFM:&amp;tbnh=116&amp;tbnw=116&amp;prev=/images?q=jade&amp;gbv=2&amp;hl=EN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s.google.com/imgres?imgurl=http://anthropologynet.files.wordpress.com/2007/11/the-jade-trade.jpg&amp;imgrefurl=http://anthropology.net/2007/11/28/the-jade-trade/&amp;usg=__z7-KmHCn8jVFV_XdSHHIOzbEzsM=&amp;h=378&amp;w=461&amp;sz=37&amp;hl=EN&amp;start=11&amp;tbnid=S8jHWqSnpHONRM:&amp;tbnh=105&amp;tbnw=128&amp;prev=/images?q=jade&amp;gbv=2&amp;hl=EN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s.google.com/imgres?imgurl=http://www.mattandmaren.com/boardman_200409_04.jpg&amp;imgrefurl=http://www.mattandmaren.com/200409_boardman.html&amp;usg=__fmNnhBFUu0Ua50seT4rGYreMszI=&amp;h=648&amp;w=486&amp;sz=123&amp;hl=EN&amp;start=4&amp;tbnid=xmDO5bs8pNoWYM:&amp;tbnh=137&amp;tbnw=103&amp;prev=/images?q=wade+in+water&amp;gbv=2&amp;hl=EN" TargetMode="External"/><Relationship Id="rId8" Type="http://schemas.openxmlformats.org/officeDocument/2006/relationships/image" Target="../media/image52.jpeg"/><Relationship Id="rId9" Type="http://schemas.openxmlformats.org/officeDocument/2006/relationships/hyperlink" Target="http://images.google.com/imgres?imgurl=http://www.alchemyforge.net/images/white-handled-knife-blade-closeup-huge.jpg&amp;imgrefurl=http://www.alchemyforge.net/galleryknives.html&amp;usg=__9p90991UxHgJLUpfbDUKW9o8ASY=&amp;h=288&amp;w=832&amp;sz=47&amp;hl=EN&amp;start=31&amp;tbnid=brj0NdHtA9pJuM:&amp;tbnh=50&amp;tbnw=144&amp;prev=/images?q=knifeblade&amp;gbv=2&amp;ndsp=18&amp;hl=EN&amp;sa=N&amp;start=18" TargetMode="External"/><Relationship Id="rId10" Type="http://schemas.openxmlformats.org/officeDocument/2006/relationships/image" Target="../media/image53.jpeg"/><Relationship Id="rId11" Type="http://schemas.openxmlformats.org/officeDocument/2006/relationships/hyperlink" Target="http://images.google.com/imgres?imgurl=http://www.photos.creativeuncut.com/digital/sequoia-park-glade.jpg&amp;imgrefurl=http://www.photos.creativeuncut.com/sequoia-park.html&amp;usg=__wzN_jayU2Zwof3LJKfDihOfTpRw=&amp;h=768&amp;w=1024&amp;sz=146&amp;hl=EN&amp;start=43&amp;tbnid=4iCau3yBUFJVSM:&amp;tbnh=113&amp;tbnw=150&amp;prev=/images?q=glade&amp;gbv=2&amp;ndsp=18&amp;hl=EN&amp;sa=N&amp;start=36" TargetMode="External"/><Relationship Id="rId12" Type="http://schemas.openxmlformats.org/officeDocument/2006/relationships/image" Target="../media/image54.jpeg"/><Relationship Id="rId13" Type="http://schemas.openxmlformats.org/officeDocument/2006/relationships/hyperlink" Target="http://images.google.com/imgres?imgurl=http://www.kaizenbonsai.com/shop/images/ct1004_spade.jpg&amp;imgrefurl=http://www.kaizenbonsai.com/shop/index.php?cPath=46&amp;usg=__g_RGUY0MKGJJdAVGnCLRtNxBXNQ=&amp;h=400&amp;w=400&amp;sz=10&amp;hl=EN&amp;start=6&amp;tbnid=JAo_OlsVnPjd3M:&amp;tbnh=124&amp;tbnw=124&amp;prev=/images?q=spade&amp;gbv=2&amp;hl=EN" TargetMode="External"/><Relationship Id="rId14" Type="http://schemas.openxmlformats.org/officeDocument/2006/relationships/image" Target="../media/image55.jpeg"/><Relationship Id="rId1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36" TargetMode="External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Pearl_&amp;_Wagner.htm" TargetMode="External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spellmaster/Pearl%20and%20Wagner/jigword2.html" TargetMode="External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Pearl%20and%20Wagner.htm" TargetMode="External"/><Relationship Id="rId2" Type="http://schemas.openxmlformats.org/officeDocument/2006/relationships/hyperlink" Target="http://scottsboro.org/~flewis/SF%20Reading%20Street/spellmaster/Pearl%20and%20Wagner/jigword2.html" TargetMode="External"/><Relationship Id="rId3" Type="http://schemas.openxmlformats.org/officeDocument/2006/relationships/hyperlink" Target="http://scottsboro.org/~flewis/SF%20Reading%20Street/spellmaster/Pearl%20and%20Wagner/matchword2.html" TargetMode="External"/><Relationship Id="rId4" Type="http://schemas.openxmlformats.org/officeDocument/2006/relationships/hyperlink" Target="http://scottsboro.org/~flewis/SF%20Reading%20Street/spellmaster/Pearl%20and%20Wagner/speedword2.html" TargetMode="External"/><Relationship Id="rId5" Type="http://schemas.openxmlformats.org/officeDocument/2006/relationships/hyperlink" Target="http://scottsboro.org/~flewis/SF%20Reading%20Street/spellmaster/Pearl%20and%20Wagner/wordsearch2.html" TargetMode="External"/><Relationship Id="rId6" Type="http://schemas.openxmlformats.org/officeDocument/2006/relationships/hyperlink" Target="http://scottsboro.org/~flewis/SF%20Reading%20Street/spellmaster/Pearl%20and%20Wagner/wordweb.html" TargetMode="External"/><Relationship Id="rId7" Type="http://schemas.openxmlformats.org/officeDocument/2006/relationships/hyperlink" Target="http://www.spellingcity.com/index.php?option=com_spellcity&amp;task=viewList&amp;listId=825959" TargetMode="External"/><Relationship Id="rId8" Type="http://schemas.openxmlformats.org/officeDocument/2006/relationships/hyperlink" Target="http://www.spellingcity.com/index.php?option=com_spellcity&amp;task=viewList&amp;listId=825966" TargetMode="External"/><Relationship Id="rId9" Type="http://schemas.openxmlformats.org/officeDocument/2006/relationships/hyperlink" Target="http://scottsboro.org/~flewis/SF%20Reading%20Street/spellmaster/Pearl%20and%20Wagner%20Spelling%20Words/speedword2.html" TargetMode="External"/><Relationship Id="rId10" Type="http://schemas.openxmlformats.org/officeDocument/2006/relationships/hyperlink" Target="http://scottsboro.org/~flewis/SF%20Reading%20Street/spellmaster/Pearl%20and%20Wagner%20Spelling%20Words/wordweb.html" TargetMode="External"/><Relationship Id="rId11" Type="http://schemas.openxmlformats.org/officeDocument/2006/relationships/hyperlink" Target="http://www.quia.com/ba/109568.html" TargetMode="External"/><Relationship Id="rId12" Type="http://schemas.openxmlformats.org/officeDocument/2006/relationships/hyperlink" Target="http://www.spellingcity.com/index.php?option=com_spellcity&amp;Itemid=122&amp;task=viewList&amp;listId=354236" TargetMode="External"/><Relationship Id="rId13" Type="http://schemas.openxmlformats.org/officeDocument/2006/relationships/hyperlink" Target="http://scottsboro.org/~flewis/SF%20Reading%20Street/Hot%20Potatoes/Pearl_&amp;_Wagner.htm" TargetMode="External"/><Relationship Id="rId14" Type="http://schemas.openxmlformats.org/officeDocument/2006/relationships/hyperlink" Target="http://www.spellingcity.com/index.php?option=com_spellcity&amp;task=viewList&amp;listId=825973" TargetMode="External"/><Relationship Id="rId15" Type="http://schemas.openxmlformats.org/officeDocument/2006/relationships/hyperlink" Target="http://www.spellingcity.com/index.php?option=com_spellcity&amp;task=viewList&amp;listId=825973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ggy.ca/wp-content/uploads/2007/08/shopping-cart.jpg&amp;imgrefurl=http://husteensworld.blogspot.com/&amp;usg=__HmHsG5k1bmf9EZr350OQgx7SXjA=&amp;h=500&amp;w=500&amp;sz=45&amp;hl=EN&amp;start=1&amp;tbnid=dF1WyRgZrnmV9M:&amp;tbnh=130&amp;tbnw=130&amp;prev=/images?q=cart&amp;gbv=2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1st-fit.com/2006_resins/dart_board.jpg&amp;imgrefurl=http://www.1st-fit.com/darts.htm&amp;usg=__ByoygMYSq-OxolO-xtIV1c_i3Mc=&amp;h=476&amp;w=320&amp;sz=24&amp;hl=EN&amp;start=14&amp;tbnid=gPpDXVvnkJcJ1M:&amp;tbnh=129&amp;tbnw=87&amp;prev=/images?q=dart&amp;gbv=2&amp;ndsp=18&amp;hl=EN&amp;sa=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www.channel4.com/food/images/mb/Channel4/4Food/big-food-map/channel4-on-tour/andrew-places/july08/week_16/01_white_hart--gt_full_width_landscape.jpg&amp;imgrefurl=http://www.channel4.com/food/big-food-map/channel-4-on-tour/the-route/scotland/andrew-s-scottish-stag-08-07-24_p_1.html&amp;usg=__Rm1fUFunAVvm211GXGfTnV--BRo=&amp;h=320&amp;w=492&amp;sz=56&amp;hl=EN&amp;start=1&amp;tbnid=Zaq7DO4SQ_NyRM:&amp;tbnh=85&amp;tbnw=130&amp;prev=/images?q=hart+deer&amp;gbv=2&amp;hl=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images.businessweek.com/ss/06/12/1227_inhouse_brands/image/8_wal-mart.jpg&amp;imgrefurl=http://images.businessweek.com/ss/06/12/1227_inhouse_brands/source/8.htm&amp;usg=__clkF45WcldsWFWIqgCS4hpaCIWg=&amp;h=453&amp;w=440&amp;sz=87&amp;hl=EN&amp;start=16&amp;tbnid=0YgrmIHD-b6DbM:&amp;tbnh=127&amp;tbnw=123&amp;prev=/images?q=mart&amp;gbv=2&amp;hl=E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m/imgres?imgurl=http://maona.net/img/food/strawberry_tart.jpg&amp;imgrefurl=http://maona.net/archives/2006/04/strawberry_tart.php&amp;usg=__l7VlLOQC6gGcmJWf8RvbRPLHWGo=&amp;h=480&amp;w=640&amp;sz=75&amp;hl=EN&amp;start=2&amp;tbnid=sV-YyZrNkQUjXM:&amp;tbnh=103&amp;tbnw=137&amp;prev=/images?q=tart&amp;gbv=2&amp;hl=E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m/imgres?imgurl=http://www.tmssoftware.com/site/img/chart_collection_large.png&amp;imgrefurl=http://www.tmssoftware.com/site/advchart.asp&amp;usg=__ekRjMwkDMRL9n44NTvzEF9Aw7oc=&amp;h=2450&amp;w=2680&amp;sz=1295&amp;hl=EN&amp;start=17&amp;tbnid=tWbLemLQUTdM-M:&amp;tbnh=137&amp;tbnw=150&amp;prev=/images?q=chart&amp;gbv=2&amp;hl=EN" TargetMode="External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90647/Sailing_Boat.jpg&amp;imgrefurl=http://www.germes-online.com/catalog/62/1156/327250/sell_sailing_boat.html&amp;usg=__xet1j7BtsN_3i1ML2f3xsdUVFug=&amp;h=360&amp;w=360&amp;sz=28&amp;hl=EN&amp;start=2&amp;tbnid=I-XW61A1A_SnzM:&amp;tbnh=121&amp;tbnw=121&amp;prev=/images?q=boat&amp;gbv=2&amp;hl=E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lucyalice.co.uk/images/491-leather-coat/560/ladies-leather-coat.jpg&amp;imgrefurl=http://www.lucyalice.co.uk/smx/leather-jackets/ladies-491/&amp;usg=__bJPZ5IUUM43gbLqKle2tmUyKiGs=&amp;h=821&amp;w=560&amp;sz=40&amp;hl=EN&amp;start=3&amp;tbnid=daBRTTDcIm03XM:&amp;tbnh=144&amp;tbnw=98&amp;prev=/images?q=coat&amp;gbv=2&amp;hl=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nwnyteam.org/Graphics/Boer%2520goat.jpg&amp;imgrefurl=http://www.nwnyteam.org/SmallFarmsFocus.htm&amp;usg=__5rrlyRrZbl0Bh8hLbC4GWIPzT1g=&amp;h=342&amp;w=300&amp;sz=31&amp;hl=EN&amp;start=4&amp;tbnid=U8DsWfllvs75MM:&amp;tbnh=120&amp;tbnw=105&amp;prev=/images?q=goat&amp;gbv=2&amp;hl=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mole45.files.wordpress.com/2009/05/moat_2chevercastle_small.jpg&amp;imgrefurl=http://mole45.wordpress.com/2009/05/12/&amp;usg=__Cp894RbTzn4-qFgCDPFLSJfLTRw=&amp;h=333&amp;w=500&amp;sz=64&amp;hl=EN&amp;start=11&amp;tbnid=oyELQ9yxnp3rTM:&amp;tbnh=87&amp;tbnw=130&amp;prev=/images?q=moat&amp;gbv=2&amp;hl=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www.liferollercoaster.com/wp-content/uploads/oat.jpg&amp;imgrefurl=http://www.liferollercoaster.com/index.php/2008/04/18/why-do-i-forced-myself-to-eat-oat&amp;usg=__1y2O6JuGBc-eRzx7SxyPQtCDi4A=&amp;h=340&amp;w=440&amp;sz=63&amp;hl=EN&amp;start=2&amp;tbnid=t1Bz9w6sAdzK1M:&amp;tbnh=98&amp;tbnw=127&amp;prev=/images?q=oat&amp;gbv=2&amp;hl=EN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accipiter.hawk-conservancy.org/images/200708/Golden%2520Oat%2520Grass.jpg&amp;imgrefurl=http://accipiter.hawk-conservancy.org/MeadowMuses/200708.shtml&amp;usg=__DzXoXVbZ04Z7ysPby4BxmUoRP44=&amp;h=800&amp;w=600&amp;sz=297&amp;hl=EN&amp;start=12&amp;tbnid=-mts3m93ot1aHM:&amp;tbnh=143&amp;tbnw=107&amp;prev=/images?q=oat&amp;gbv=2&amp;hl=EN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images.google.com/imgres?imgurl=http://i.usatoday.net/sports/_photos/2008/08/24/boxing2-l.jpg&amp;imgrefurl=http://www.usatoday.com/sports/olympics/beijing/fight/default.htm&amp;usg=__LSFV1t0SOaSuGcHFGNTWgYfteGA=&amp;h=218&amp;w=334&amp;sz=25&amp;hl=EN&amp;start=45&amp;tbnid=LAhVoPm1qT4oIM:&amp;tbnh=78&amp;tbnw=119&amp;prev=/images?q=gloat&amp;gbv=2&amp;ndsp=18&amp;hl=EN&amp;sa=N&amp;start=36" TargetMode="External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0.xml"/><Relationship Id="rId3" Type="http://schemas.openxmlformats.org/officeDocument/2006/relationships/slide" Target="slide101.xml"/><Relationship Id="rId4" Type="http://schemas.openxmlformats.org/officeDocument/2006/relationships/slide" Target="slide121.xml"/><Relationship Id="rId5" Type="http://schemas.openxmlformats.org/officeDocument/2006/relationships/slide" Target="slide139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gnation.com/product-enlarged/22ed49fb7ff754e963f67c310e5828d5/Rhodia-Le-Bloc-Notebook-A4-Side-Wired-Bound--Orange--A4-Lined-Margin.jpg&amp;imgrefurl=http://www.magnation.com/Rhodia-Le-Bloc-Notebook-A4-Side-Wired-Bound--Orange--A4-Lined-Margin-2060.php&amp;usg=__X4PDYVSX-J56ZRmBrs8N-m0NLsQ=&amp;h=465&amp;w=400&amp;sz=20&amp;hl=EN&amp;start=194&amp;tbnid=XylQSLCjIHyevM:&amp;tbnh=128&amp;tbnw=110&amp;prev=/images?q=bound&amp;gbv=2&amp;ndsp=18&amp;hl=EN&amp;sa=N&amp;start=180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dogbreedinfo.com/images19/BassettHoundBandit2Years.JPG&amp;imgrefurl=http://www.dogbreedinfo.com/bassethound.htm&amp;usg=__R-SozsT6Dy-xS-VjjpG1HFoJqe8=&amp;h=302&amp;w=400&amp;sz=34&amp;hl=EN&amp;start=1&amp;tbnid=C0-n51N9UmassM:&amp;tbnh=94&amp;tbnw=124&amp;prev=/images?q=hound&amp;gbv=2&amp;hl=E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schs1979.org/photos/Mound3.jpg&amp;imgrefurl=http://www.schs1979.org/sochas.html&amp;usg=__8x0TK5E_G-hWiEDtFzTYagLXOYI=&amp;h=1200&amp;w=1600&amp;sz=238&amp;hl=EN&amp;start=4&amp;tbnid=U8uSWXE6pecUTM:&amp;tbnh=113&amp;tbnw=150&amp;prev=/images?q=mound&amp;gbv=2&amp;hl=EN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google.com/imgres?imgurl=http://www.freeclipartnow.com/d/30378-1/british-pound.jpg&amp;imgrefurl=http://www.freeclipartnow.com/money-business/coins/british-pound.jpg.html&amp;usg=__tRJFBe86YisbuASQCfNDGpqFkCQ=&amp;h=350&amp;w=350&amp;sz=43&amp;hl=EN&amp;start=13&amp;tbnid=x-pEvdGkIlZxpM:&amp;tbnh=120&amp;tbnw=120&amp;prev=/images?q=pound&amp;gbv=2&amp;hl=EN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ages.google.com/imgres?imgurl=http://www.notderbypie.com/wp-content/uploads/2009/03/olive-oil-pound-cake-2.jpg&amp;imgrefurl=http://www.notderbypie.com/perfect-pound-cake/&amp;usg=__2-rZLhhol9rjq9LSpflDxqUsyhg=&amp;h=602&amp;w=404&amp;sz=166&amp;hl=EN&amp;start=94&amp;tbnid=91cSzhGlOvTPyM:&amp;tbnh=135&amp;tbnw=91&amp;prev=/images?q=pound&amp;gbv=2&amp;ndsp=18&amp;hl=EN&amp;sa=N&amp;start=90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images.google.com/imgres?imgurl=http://www.getfitsource.com/images/8-Pound-Dumbbell.jpg&amp;imgrefurl=http://www.getfitsource.com/p146/4-Pound-Pilates-Sand-Ball/product_info.html&amp;usg=__QXR7pCcme7p5aFS1DAyYkBzsnos=&amp;h=305&amp;w=305&amp;sz=42&amp;hl=EN&amp;start=23&amp;tbnid=-NSHpOx-asf4yM:&amp;tbnh=116&amp;tbnw=116&amp;prev=/images?q=pound&amp;gbv=2&amp;ndsp=18&amp;hl=EN&amp;sa=N&amp;start=18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i222.photobucket.com/albums/dd10/tagblog/merry_go_round-.jpg&amp;imgrefurl=http://benprice01.blogspot.com/2009_03_01_archive.html&amp;usg=__WtuCdaUuY2AyiDRUlEmw_JQYZZ4=&amp;h=768&amp;w=1024&amp;sz=636&amp;hl=EN&amp;start=36&amp;tbnid=M606ggk0G9EayM:&amp;tbnh=113&amp;tbnw=150&amp;prev=/images?q=round&amp;gbv=2&amp;ndsp=18&amp;hl=EN&amp;sa=N&amp;start=18" TargetMode="External"/><Relationship Id="rId14" Type="http://schemas.openxmlformats.org/officeDocument/2006/relationships/image" Target="../media/image27.jpeg"/><Relationship Id="rId15" Type="http://schemas.openxmlformats.org/officeDocument/2006/relationships/hyperlink" Target="http://images.google.com/imgres?imgurl=http://www.cortland.edu/flteach/mm-course/sound6.JPG&amp;imgrefurl=http://www.cortland.edu/flteach/mm-course/sound.html&amp;usg=__JjvhR92FREIXrOPJ_nkZmdT9nvM=&amp;h=261&amp;w=407&amp;sz=33&amp;hl=EN&amp;start=18&amp;tbnid=9076NybyGnEw-M:&amp;tbnh=80&amp;tbnw=125&amp;prev=/images?q=sound&amp;gbv=2&amp;hl=EN" TargetMode="External"/><Relationship Id="rId16" Type="http://schemas.openxmlformats.org/officeDocument/2006/relationships/image" Target="../media/image28.jpeg"/><Relationship Id="rId17" Type="http://schemas.openxmlformats.org/officeDocument/2006/relationships/hyperlink" Target="http://images.google.com/imgres?imgurl=http://www.supremewatersales.com/shoppingcart/images/PolyWoundCartridge2x9.jpg&amp;imgrefurl=http://www.supremewatersales.com/shoppingcart/index.php?main_page=products_all&amp;usg=__YUDLOnobnIJ0ugO0p4Q2ySJh2XY=&amp;h=600&amp;w=500&amp;sz=81&amp;hl=EN&amp;start=66&amp;tbnid=KtrizlVMbdnxgM:&amp;tbnh=135&amp;tbnw=113&amp;prev=/images?q=wound&amp;gbv=2&amp;ndsp=18&amp;hl=EN&amp;sa=N&amp;start=54" TargetMode="External"/><Relationship Id="rId18" Type="http://schemas.openxmlformats.org/officeDocument/2006/relationships/image" Target="../media/image29.jpeg"/><Relationship Id="rId19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slide" Target="slide93.xml"/><Relationship Id="rId3" Type="http://schemas.openxmlformats.org/officeDocument/2006/relationships/slide" Target="slide93.xml"/><Relationship Id="rId4" Type="http://schemas.openxmlformats.org/officeDocument/2006/relationships/slide" Target="slide94.xml"/><Relationship Id="rId5" Type="http://schemas.openxmlformats.org/officeDocument/2006/relationships/slide" Target="slide95.xml"/><Relationship Id="rId6" Type="http://schemas.openxmlformats.org/officeDocument/2006/relationships/slide" Target="slide95.xml"/><Relationship Id="rId7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psychologytoday.com/files/u45/robot.jpg&amp;imgrefurl=http://www.psychologytoday.com/blog/dont-delay/200903/readers-drive-learning-important-thoughts-about-intentions-and-choice?quicktabs_4=0&amp;usg=__sHFZdrYeddkA6KPhCpVMTb9gueM=&amp;h=509&amp;w=350&amp;sz=22&amp;hl=EN&amp;start=1&amp;tbnid=cSjgNzskEha5LM:&amp;tbnh=131&amp;tbnw=90&amp;prev=/images?q=robot&amp;gbv=2&amp;hl=EN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om/imgres?imgurl=http://www.geekologie.com/2007/12/03/robot-wars.jpg&amp;imgrefurl=http://www.geekologie.com/2007/12/02-week/&amp;usg=__B_erzKDuRl6w2SISXC0-2y0WrUQ=&amp;h=328&amp;w=450&amp;sz=34&amp;hl=EN&amp;start=18&amp;tbnid=X4Noh3i2viPwkM:&amp;tbnh=93&amp;tbnw=127&amp;prev=/images?q=robot&amp;gbv=2&amp;hl=EN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om/imgres?imgurl=http://www.army-technology.com/contractor_images/i_robot/i_robot1.jpg&amp;imgrefurl=http://www.army-technology.com/contractors/mines/i_robot/i_robot1.html&amp;usg=__1xaNVyjPLhxp9hdGNYGSMsDiQpQ=&amp;h=446&amp;w=350&amp;sz=28&amp;hl=EN&amp;start=22&amp;tbnid=IPT73m_EAVK0vM:&amp;tbnh=127&amp;tbnw=100&amp;prev=/images?q=robot&amp;gbv=2&amp;ndsp=18&amp;hl=EN&amp;sa=N&amp;start=18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mediabistro.com/agencyspy/original/cash-wad.jpg&amp;imgrefurl=http://www.mediabistro.com/agencyspy/mcgarrybowen/mcgarrybowen_sells_its_soul_to_dentsu_100400.asp&amp;usg=__0xxFH-CrFEzOTuKvb8p90FW6yck=&amp;h=300&amp;w=400&amp;sz=43&amp;hl=EN&amp;start=3&amp;tbnid=XlJa71V2WMEICM:&amp;tbnh=93&amp;tbnw=124&amp;prev=/images?q=wad&amp;gbv=2&amp;hl=EN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images.google.com/imgres?imgurl=http://www.istockphoto.com/file_thumbview_approve/930534/2/istockphoto_930534_wad_of_paper.jpg&amp;imgrefurl=https://www.pbreview.com/forums/showthread.php?t=429084&amp;page=22&amp;usg=__9k9Lp4q1IlngixcgGWYo5RjXgVM=&amp;h=312&amp;w=380&amp;sz=31&amp;hl=EN&amp;start=8&amp;tbnid=WCRnNcW6UIarLM:&amp;tbnh=101&amp;tbnw=123&amp;prev=/images?q=wad&amp;gbv=2&amp;hl=EN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slide" Target="slide91.xml"/><Relationship Id="rId3" Type="http://schemas.openxmlformats.org/officeDocument/2006/relationships/hyperlink" Target="http://images.google.com/imgres?imgurl=http://www.psychologytoday.com/files/u107/trash.jpg&amp;imgrefurl=http://www.psychologytoday.com/blog/ulterior-motives/200901/cleanliness-is-next-godliness-or-least-morality&amp;usg=__7xl9u5e9LBxv46ubFQZpqe0yHII=&amp;h=375&amp;w=500&amp;sz=28&amp;hl=EN&amp;start=4&amp;tbnid=pttuMjeHm75l0M:&amp;tbnh=98&amp;tbnw=130&amp;prev=/images?q=trash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how-things-work-science-projects.com/images/lightening_500x332.jpg&amp;imgrefurl=http://www.how-things-work-science-projects.com/electricity-science-projects.html&amp;usg=__3UeiunFbqmexBNZMBELONZIJurI=&amp;h=332&amp;w=500&amp;sz=31&amp;hl=EN&amp;start=19&amp;tbnid=eRBkhT126yHKwM:&amp;tbnh=86&amp;tbnw=130&amp;prev=/images?q=electricity&amp;gbv=2&amp;ndsp=18&amp;hl=EN&amp;sa=N&amp;start=18" TargetMode="External"/><Relationship Id="rId3" Type="http://schemas.openxmlformats.org/officeDocument/2006/relationships/image" Target="../media/image36.jpeg"/><Relationship Id="rId4" Type="http://schemas.openxmlformats.org/officeDocument/2006/relationships/hyperlink" Target="http://images.google.com/imgres?imgurl=http://www.freefoto.com/images/13/67/13_67_56---Electricity-Substation_web.jpg&amp;imgrefurl=http://www.freefoto.com/preview/13-67-56?ffid=13-67-56&amp;k=Electricity+Substation&amp;usg=__sSbkOkrJ2OEWEAC-XbvzwEaQpvE=&amp;h=600&amp;w=400&amp;sz=288&amp;hl=EN&amp;start=33&amp;tbnid=TXDr8nof3DYBqM:&amp;tbnh=135&amp;tbnw=90&amp;prev=/images?q=electricity&amp;gbv=2&amp;ndsp=18&amp;hl=EN&amp;sa=N&amp;start=18" TargetMode="External"/><Relationship Id="rId5" Type="http://schemas.openxmlformats.org/officeDocument/2006/relationships/image" Target="../media/image37.jpeg"/><Relationship Id="rId6" Type="http://schemas.openxmlformats.org/officeDocument/2006/relationships/hyperlink" Target="http://images.google.com/imgres?imgurl=http://rlv.zcache.com/electricity_poster-p228728887348279244trma_400.jpg&amp;imgrefurl=http://www.zazzle.ca/electricity_poster-228728887348279244&amp;usg=__oiNqYoCnJhCJ7gKOyit3HeQyDRA=&amp;h=400&amp;w=400&amp;sz=25&amp;hl=EN&amp;start=76&amp;tbnid=mU-yGKKX1-lfKM:&amp;tbnh=124&amp;tbnw=124&amp;prev=/images?q=electricity&amp;gbv=2&amp;ndsp=18&amp;hl=EN&amp;sa=N&amp;start=72" TargetMode="External"/><Relationship Id="rId7" Type="http://schemas.openxmlformats.org/officeDocument/2006/relationships/image" Target="../media/image38.jpeg"/><Relationship Id="rId8" Type="http://schemas.openxmlformats.org/officeDocument/2006/relationships/hyperlink" Target="http://images.google.com/imgres?imgurl=http://www.mondovista.com/electric.cancer.jpg&amp;imgrefurl=http://www.mondovista.com/electric.cancer.html&amp;usg=__dKxAsgam6jIUnTPoEsGDmqQ787s=&amp;h=500&amp;w=500&amp;sz=80&amp;hl=EN&amp;start=89&amp;tbnid=wQ9BfM4BdgE5cM:&amp;tbnh=130&amp;tbnw=130&amp;prev=/images?q=electricity&amp;gbv=2&amp;ndsp=18&amp;hl=EN&amp;sa=N&amp;start=72" TargetMode="External"/><Relationship Id="rId9" Type="http://schemas.openxmlformats.org/officeDocument/2006/relationships/image" Target="../media/image39.jpeg"/><Relationship Id="rId10" Type="http://schemas.openxmlformats.org/officeDocument/2006/relationships/hyperlink" Target="http://images.google.com/imgres?imgurl=http://www.atmospheric-electricity.org/images/Electricity.jpg&amp;imgrefurl=http://www.atmospheric-electricity.org/electricity-auction-domains.html&amp;usg=__9kgOoTly8iqyzl1T2ZYpiZ2UtLE=&amp;h=300&amp;w=400&amp;sz=40&amp;hl=EN&amp;start=104&amp;tbnid=Q2jz3_Ha9ay1wM:&amp;tbnh=93&amp;tbnw=124&amp;prev=/images?q=electricity&amp;gbv=2&amp;ndsp=18&amp;hl=EN&amp;sa=N&amp;start=90" TargetMode="External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6996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2800"/>
            </a:br>
            <a:r>
              <a:rPr b="1" lang="en-US" sz="2000" spc="-1" strike="noStrike">
                <a:solidFill>
                  <a:srgbClr val="fa9747"/>
                </a:solidFill>
                <a:latin typeface="Arial"/>
              </a:rPr>
              <a:t>Click to listen to story.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2" name="Picture 18" descr="Pearl and Wag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2514600"/>
            <a:ext cx="247644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</a:t>
            </a:r>
            <a:r>
              <a:rPr b="0" lang="ja-JP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0574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n idea for an invention you could use on the playground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eat corn, so farmers build mousetraps.  Cats are the best mousetraps though!  What else can cats do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0574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at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orn, so farmer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ild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mousetraps.  Cat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e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the best mousetraps though!  What els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at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63" name="Picture 2" descr="Farmer Smart's Fat Cat"/>
          <p:cNvPicPr/>
          <p:nvPr/>
        </p:nvPicPr>
        <p:blipFill>
          <a:blip r:embed="rId1"/>
          <a:srcRect l="0" t="0" r="0" b="9627"/>
          <a:stretch/>
        </p:blipFill>
        <p:spPr>
          <a:xfrm>
            <a:off x="3200400" y="16765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 - ject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something you plan and then 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r class is working on a big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paint a mural in the hall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s book report is turning out to be a bigger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han I exp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scra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scrap is a tiny piece of something.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re often leftover from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gave the dog the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rom din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y grandmother used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of cloth to make a quil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a: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 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d – l – m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p – s - y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 subject you study in schoo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name for a small tow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ll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to tell ti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word for beautifu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on your fo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do when you don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 know the answ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gu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that happened when you came in first pla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562720" y="1752480"/>
          <a:ext cx="3089160" cy="38102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how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ho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82" name="Picture 2" descr="http://tbn1.google.com/images?q=tbn:F8g9xAfsrB-A_M:http://www.spirituallysmart.com/images/bush_b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152856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tbn0.google.com/images?q=tbn:UzOcsJw14f-zSM:http://www.vet.ed.ac.uk/dhhps/images/Cow%2520Photos/cow%2520graz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1228680" cy="1409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tbn0.google.com/images?q=tbn:cgsYtis0Kr5qNM:http://www.dalehousefarm.com/images/pigs/barbar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00440" y="1828800"/>
            <a:ext cx="1819440" cy="1371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http://tbn2.google.com/images?q=tbn:911eGTCQINu4DM:http://www.petplanet.co.uk/petplanet/images/breeds/chow_rough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752480"/>
            <a:ext cx="1714320" cy="1506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http://tbn1.google.com/images?q=tbn:HZk5pyAbQgFHJM:http://www.longliveyourdog.com/getresource.axd%3Fcategory%3Dproduct%26id%3D21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95280" y="403848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http://tbn1.google.com/images?q=tbn:uDqRl1_vXQYqRM:http://1.bp.blogspot.com/_MCdf_WU6IDU/Sa6kVkSKafI/AAAAAAAAAHg/Cn1cBC6tBHY/s320/Brow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114800"/>
            <a:ext cx="1465560" cy="1600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4" descr="http://tbn3.google.com/images?q=tbn:bRk_Z9YHZHDhCM:http://www.bighambrothers.com/one-pass-plow-0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95680" y="4267080"/>
            <a:ext cx="208944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6" descr="http://tbn3.google.com/images?q=tbn:uXXTaCXIY-ItNM:http://www.chatstractors.com/2004_implements/041091_hd_steel_beam_walking%2520plow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4343400"/>
            <a:ext cx="1676520" cy="12603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0"/>
          <p:cNvSpPr/>
          <p:nvPr/>
        </p:nvSpPr>
        <p:spPr>
          <a:xfrm>
            <a:off x="1606320" y="31240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3358080" y="312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5110560" y="320040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093080" y="327672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4" name="TextBox 14"/>
          <p:cNvSpPr/>
          <p:nvPr/>
        </p:nvSpPr>
        <p:spPr>
          <a:xfrm>
            <a:off x="1530720" y="5715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5" name="TextBox 15"/>
          <p:cNvSpPr/>
          <p:nvPr/>
        </p:nvSpPr>
        <p:spPr>
          <a:xfrm>
            <a:off x="3053880" y="5715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r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6" name="TextBox 16"/>
          <p:cNvSpPr/>
          <p:nvPr/>
        </p:nvSpPr>
        <p:spPr>
          <a:xfrm>
            <a:off x="5187600" y="57150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TextBox 17"/>
          <p:cNvSpPr/>
          <p:nvPr/>
        </p:nvSpPr>
        <p:spPr>
          <a:xfrm>
            <a:off x="7397640" y="556272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 the opposite of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o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ea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me a type of bi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g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rhyming pai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deep &amp; sleep, wheel &amp; feel, wreath &amp; tee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gl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rea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ea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me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e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 the same thing a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reez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wind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 the opposite of h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s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me an event people have fun 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tony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Pearl pulled the string on the robo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mouth, the robo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When she let go of the string, the robo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posit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antonym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– bi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 – s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 - eas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Science project are not eis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Science projects are not eas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heps to read about them frist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elps to read about them firs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erb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doing words that show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osing strong, interesting verbs helps readers create a mental pic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of verbs that tell about things people do in each of these pla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y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we will read about robots that  people can now use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constru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 -  str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omething, you build it or put it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ople native to the Artic regions used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helters from snow and 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oy Scouts used wood, nails, a saw, and a hammer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birdhou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 antonyms in sentences contrasting Pearl and Wagner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unique contraption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raption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olve problem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971800" y="1828800"/>
          <a:ext cx="3927600" cy="46753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Secret Pro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 brought the frisky puppies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armer looked behind the shed door for the skates and po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d she promise Bert that we would get the bench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made lunches for everybod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begin to have dreams the minute I go to slee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eacher felt sorry that one person did not get to read a vers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562720" y="1752480"/>
          <a:ext cx="3089160" cy="42260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made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sideki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 - ki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hav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you have a good friend and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ose two kids are always together; they are real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e and her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ne are working on that puzz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ma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431" name="Picture 2" descr="http://tbn1.google.com/images?q=tbn:zZE5dDUr5jsm9M:http://www.catalystservices.co.uk/assets/images/RHborder_fad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752480"/>
            <a:ext cx="822240" cy="2057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http://tbn2.google.com/images?q=tbn:R4ViK41DGfiwFM:http://www.valuablestones.com/jade%2520bea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057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http://tbn3.google.com/images?q=tbn:S8jHWqSnpHONRM:http://anthropologynet.files.wordpress.com/2007/11/the-jade-trad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057400"/>
            <a:ext cx="1857240" cy="1523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http://tbn2.google.com/images?q=tbn:xmDO5bs8pNoWYM:http://www.mattandmaren.com/boardman_200409_0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190512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http://tbn0.google.com/images?q=tbn:brj0NdHtA9pJuM:http://www.alchemyforge.net/images/white-handled-knife-blade-closeup-hug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876920"/>
            <a:ext cx="2193840" cy="761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http://tbn2.google.com/images?q=tbn:4iCau3yBUFJVSM:http://www.photos.creativeuncut.com/digital/sequoia-park-glad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434340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http://tbn3.google.com/images?q=tbn:JAo_OlsVnPjd3M:http://www.kaizenbonsai.com/shop/images/ct1004_spad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4724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0"/>
          <p:cNvSpPr/>
          <p:nvPr/>
        </p:nvSpPr>
        <p:spPr>
          <a:xfrm>
            <a:off x="1758600" y="380988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9" name="TextBox 11"/>
          <p:cNvSpPr/>
          <p:nvPr/>
        </p:nvSpPr>
        <p:spPr>
          <a:xfrm>
            <a:off x="4120560" y="365760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0" name="TextBox 12"/>
          <p:cNvSpPr/>
          <p:nvPr/>
        </p:nvSpPr>
        <p:spPr>
          <a:xfrm>
            <a:off x="7093440" y="38862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206460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l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2" name="TextBox 14"/>
          <p:cNvSpPr/>
          <p:nvPr/>
        </p:nvSpPr>
        <p:spPr>
          <a:xfrm>
            <a:off x="48006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l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7018200" y="5867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p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"/>
              </a:rPr>
              <a:t>Robots at Home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es 340 - 34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tudent Pages"/>
          <p:cNvPicPr/>
          <p:nvPr/>
        </p:nvPicPr>
        <p:blipFill>
          <a:blip r:embed="rId1"/>
          <a:stretch/>
        </p:blipFill>
        <p:spPr>
          <a:xfrm>
            <a:off x="228600" y="152280"/>
            <a:ext cx="8850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My teme made an robot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My team made a robo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teeth and eihg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as teeth and eigh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ds that show action are called verb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ran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a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et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raw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r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aking &amp; Listening: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olve Problem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can use speaking and listening skills to help you solve proble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 example, you could discuss difficulties that may come up when friends work on a project togeth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would focus your discussion on three area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the probl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fer ideas for a solution and listen to the ideas and opinions of oth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eate a solu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aking &amp; Listening: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olve Problem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n you work on group problem solving, you should have a discussion lead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calls on people in turn who raise their hand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listens carefully and does not interrup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helps keep the conversation focused on the topi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istened to a story about Annie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secret 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ject.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Tomorrow we will hear the story agai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a puppy and his sidekick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constructed unique contraptions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uniq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 – ni – qu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the only one lik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m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grandmother made him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ddy bear when he was a bab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can writ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e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contraptions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04760" y="205704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</a:t>
            </a:r>
            <a:r>
              <a:rPr b="0" lang="ja-JP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lossar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Secret Pro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562720" y="1752480"/>
          <a:ext cx="3089160" cy="42260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pea is a seed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ill meet Cindy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nd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green jeep was not chea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as no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teep cliff has a sharp pea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liff has a sharp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a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5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is a ____ picture you ma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re going to ___ her team play b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looked under my bed for the other 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earned about plants in ____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r class___ the reading conte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 not know, just make a _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lived in a little ____ over the h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ill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447920" y="2209680"/>
          <a:ext cx="2819160" cy="32004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Hour project was really gude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Our project was really good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 fill we shood have on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 feel we should have won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243828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Click to listen to a song about inventions.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2" descr="Unique Inventions"/>
          <p:cNvPicPr/>
          <p:nvPr/>
        </p:nvPicPr>
        <p:blipFill>
          <a:blip r:embed="rId1"/>
          <a:srcRect l="0" t="0" r="0" b="8110"/>
          <a:stretch/>
        </p:blipFill>
        <p:spPr>
          <a:xfrm>
            <a:off x="3733920" y="304920"/>
            <a:ext cx="5257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earch/Study Skills:  Gloss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lossaries give information about wor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try words in a glossary are usually written in dark typ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entry word may be broken into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finition, or what the word means, follow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y entries have pictu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6765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ive Ide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scribe a clubhou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 construct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bd189"/>
                </a:solidFill>
                <a:latin typeface="Arial"/>
              </a:rPr>
              <a:t>Related Link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066680" y="2209680"/>
          <a:ext cx="7543800" cy="42735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've Got a Robot Song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icture Sort for long and short sounds of e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= long e sound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em Pack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tonym Match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erb Quizz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tonyms, Synonyms, and Homonym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s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990720" y="1752480"/>
          <a:ext cx="7924680" cy="43592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435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peration Junkyard: Go-Car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e Can Work Together (A Sunburst Title)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e Basic Grammar Series: Verb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Benjamin Franklin: Scientist and Inventor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Alexander Graham Bell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The Wright Brothers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Thomas Edison and the Electric Ligh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We are now ready to </a:t>
            </a:r>
            <a:br>
              <a:rPr sz="4800"/>
            </a:b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take our story tests.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Quiz # 90460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eme        Stev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en you see e-consonant-e, the first e, says its name, and the second e is silent.  (When 2 vowels go walking, the first does the talking, and the second one stays quie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oday we will study other spellings for long 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8120" y="151920"/>
            <a:ext cx="5943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Ce – When a word has a vowel-consonant-silent e pattern, the vowel usually stands for its long vowe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s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ce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te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, CV/C – When a single vowel ends a word or a syllable, it usually has the long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wo ee</a:t>
            </a:r>
            <a:r>
              <a:rPr b="0" lang="ja-JP" sz="1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usually stand for the long e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re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gree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en y ends a word of two or more syllables, it usually has the long e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VC – When two vowels appear together in a word or syllable, the first usually stands for its long sound and the second is silen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ea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crea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2" descr="C:\Users\Freida Lewis\Desktop\sound cards\Card 10.jpg"/>
          <p:cNvPicPr/>
          <p:nvPr/>
        </p:nvPicPr>
        <p:blipFill>
          <a:blip r:embed="rId1"/>
          <a:stretch/>
        </p:blipFill>
        <p:spPr>
          <a:xfrm>
            <a:off x="762120" y="304920"/>
            <a:ext cx="2286000" cy="63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ound you hear at the beginning of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sel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metime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tands for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rela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can blend longer words with /e/ by dividing them into smaller chunks or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word has a long vowel sound in the first syllable, we usually divide the word between the vowel and the consonant that follows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one syllable at a time and then blend them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9747"/>
                </a:solidFill>
                <a:latin typeface="Arial"/>
              </a:rPr>
              <a:t>Small Groups</a:t>
            </a:r>
            <a:endParaRPr b="0" lang="en-US" sz="6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7400" y="1066320"/>
            <a:ext cx="281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un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o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z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l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381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Vocabulary &amp; Amazing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7"/>
              </a:rPr>
              <a:t>Spelling City – Vo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5160" y="1523520"/>
            <a:ext cx="3740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Spelling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High Frequency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47920" y="1981080"/>
          <a:ext cx="2819160" cy="327672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Word Reading:</a:t>
            </a:r>
            <a:br>
              <a:rPr sz="44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 and Short  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6196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e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e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62720" y="1752480"/>
          <a:ext cx="3089160" cy="38102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part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par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99" name="Picture 2" descr="http://tbn2.google.com/images?q=tbn:dF1WyRgZrnmV9M:http://www.diggy.ca/wp-content/uploads/2007/08/shopping-ca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1055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tbn3.google.com/images?q=tbn:gPpDXVvnkJcJ1M:http://www.1st-fit.com/2006_resins/dart_boar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962520"/>
            <a:ext cx="1285920" cy="1906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tbn3.google.com/images?q=tbn:Zaq7DO4SQ_NyRM:http://www.channel4.com/food/images/mb/Channel4/4Food/big-food-map/channel4-on-tour/andrew-places/july08/week_16/01_white_hart--gt_full_width_landscap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90512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ttp://tbn3.google.com/images?q=tbn:0YgrmIHD-b6DbM:http://images.businessweek.com/ss/06/12/1227_inhouse_brands/image/8_wal-mar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1905120"/>
            <a:ext cx="1171800" cy="1209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http://tbn0.google.com/images?q=tbn:sV-YyZrNkQUjXM:http://maona.net/img/food/strawberry_tar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3962520"/>
            <a:ext cx="152064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http://tbn3.google.com/images?q=tbn:tWbLemLQUTdM-M:http://www.tmssoftware.com/site/img/chart_collection_large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95280" y="1828800"/>
            <a:ext cx="2743200" cy="2505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8"/>
          <p:cNvSpPr/>
          <p:nvPr/>
        </p:nvSpPr>
        <p:spPr>
          <a:xfrm>
            <a:off x="2291040" y="43434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5338080" y="304812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7242120" y="31240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3204360" y="556272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5414400" y="58672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7394760" y="5105520"/>
            <a:ext cx="6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loat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lo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14" name="Picture 2" descr="http://tbn2.google.com/images?q=tbn:I-XW61A1A_SnzM:http://www.germes-online.com/direct/dbimage/50290647/Sailing_Bo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1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tbn1.google.com/images?q=tbn:daBRTTDcIm03XM:http://www.lucyalice.co.uk/images/491-leather-coat/560/ladies-leather-coa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828800"/>
            <a:ext cx="1143000" cy="1679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tbn0.google.com/images?q=tbn:U8DsWfllvs75MM:http://www.nwnyteam.org/Graphics/Boer%2520goa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981080"/>
            <a:ext cx="1333800" cy="1524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http://tbn3.google.com/images?q=tbn:oyELQ9yxnp3rTM:http://mole45.files.wordpress.com/2009/05/moat_2chevercastle_small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1981080"/>
            <a:ext cx="1935360" cy="129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://tbn3.google.com/images?q=tbn:t1Bz9w6sAdzK1M:http://www.liferollercoaster.com/wp-content/uploads/oa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81280" y="4648320"/>
            <a:ext cx="16779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http://tbn0.google.com/images?q=tbn:-mts3m93ot1aHM:http://accipiter.hawk-conservancy.org/images/200708/Golden%2520Oat%2520Grass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676520" y="4419720"/>
            <a:ext cx="1218960" cy="162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http://tbn1.google.com/images?q=tbn:LAhVoPm1qT4oIM:http://i.usatoday.net/sports/_photos/2008/08/24/boxing2-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9920" y="4648320"/>
            <a:ext cx="1976400" cy="1295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1758600" y="342900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3511080" y="3505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5340240" y="35053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7472880" y="32767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061360" y="6019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411876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6635880" y="5943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l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Let</a:t>
            </a:r>
            <a:r>
              <a:rPr b="1" lang="ja-JP" sz="6000" spc="-1" strike="noStrike">
                <a:solidFill>
                  <a:srgbClr val="ebd189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s Talk About</a:t>
            </a:r>
            <a:br>
              <a:rPr sz="48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cab40"/>
                </a:solidFill>
                <a:latin typeface="Arial"/>
              </a:rPr>
              <a:t>Creative Ideas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cab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Student Pages"/>
          <p:cNvPicPr/>
          <p:nvPr/>
        </p:nvPicPr>
        <p:blipFill>
          <a:blip r:embed="rId1"/>
          <a:stretch/>
        </p:blipFill>
        <p:spPr>
          <a:xfrm>
            <a:off x="185760" y="228600"/>
            <a:ext cx="8958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Put the steps in order from first to last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3505320"/>
            <a:ext cx="42674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3760" y="350532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</a:t>
            </a:r>
            <a:r>
              <a:rPr b="0" lang="ja-JP" sz="4400" spc="-1" strike="noStrike">
                <a:solidFill>
                  <a:srgbClr val="ebd189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infor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ntertai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scrib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onvi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reader to think or act in a certain w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cab40"/>
                </a:solidFill>
                <a:latin typeface="Arial"/>
              </a:rPr>
              <a:t>Read-Aloud</a:t>
            </a:r>
            <a:endParaRPr b="0" lang="en-US" sz="6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524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Amazing Ba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carl think of a idea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Carl thinks of an idea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then he make a meel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Then he makes a mea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makes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a present for his da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makes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Ahmed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finds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find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aints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a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rints 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he Best Dad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r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he Best Dad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 dad likes the pres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n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 da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like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pres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laces it on his de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lace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it on his de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e: e, ee, 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the class will read about two friends who create a wonderful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A 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0574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something that makes you unique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562720" y="1752480"/>
          <a:ext cx="3089160" cy="388620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 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09680" y="2133720"/>
          <a:ext cx="6096240" cy="4333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41240">
                <a:tc>
                  <a:txBody>
                    <a:bodyPr lIns="90000" rIns="90000" tIns="51480" bIns="51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One farmer has a smart idea for getting rid of the mice.  What do you think is a smart idea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09680" y="2133720"/>
          <a:ext cx="6096240" cy="4333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41240">
                <a:tc>
                  <a:txBody>
                    <a:bodyPr lIns="90000" rIns="90000" tIns="51480" bIns="51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e farmer has a smart idea for getting rid of the mice.  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at do you think is a smart idea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thor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contrap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 – trap – tion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s something that is put together in a very odd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trange machines the farmers made to catch the mice were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s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y dad put two baby buggies together to mak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he twins could ride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coach mad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wheel all the balls and other stuff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foolproo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 - proof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o simple and safe that anybody can us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at is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use catc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os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ke is a tricyc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daydrea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 – dream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you are awake but you are thinking of pleasant thing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that cold winter day, I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going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san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how nice it would be to have her own roo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64" name="Picture 2" descr="Farmer Smart's Fat Cat"/>
          <p:cNvPicPr/>
          <p:nvPr/>
        </p:nvPicPr>
        <p:blipFill>
          <a:blip r:embed="rId1"/>
          <a:srcRect l="0" t="0" r="0" b="9627"/>
          <a:stretch/>
        </p:blipFill>
        <p:spPr>
          <a:xfrm>
            <a:off x="3200400" y="16765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quee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an read this word because you know how to read words with long e spelled e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at sound does  ee make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o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ap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z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ro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uc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880" y="5335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1447920"/>
            <a:ext cx="25146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Click to listen to </a:t>
            </a:r>
            <a:r>
              <a:rPr b="0" lang="ja-JP" sz="3600" spc="-1" strike="noStrike">
                <a:solidFill>
                  <a:srgbClr val="ebd18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Inventors Succeed.</a:t>
            </a:r>
            <a:r>
              <a:rPr b="0" lang="ja-JP" sz="3600" spc="-1" strike="noStrike">
                <a:solidFill>
                  <a:srgbClr val="ebd189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1" name="Picture 2" descr="Phonics Songs and Rhymes Chart 11"/>
          <p:cNvPicPr/>
          <p:nvPr/>
        </p:nvPicPr>
        <p:blipFill>
          <a:blip r:embed="rId1"/>
          <a:srcRect l="3119" t="2105" r="6261" b="11430"/>
          <a:stretch/>
        </p:blipFill>
        <p:spPr>
          <a:xfrm>
            <a:off x="4114800" y="0"/>
            <a:ext cx="472428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Find the long e words in </a:t>
            </a:r>
            <a:r>
              <a:rPr b="1" i="1" lang="ja-JP" sz="2400" spc="-1" strike="noStrike">
                <a:solidFill>
                  <a:srgbClr val="ebd18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Inventors Succeed.</a:t>
            </a:r>
            <a:r>
              <a:rPr b="1" i="1" lang="ja-JP" sz="2400" spc="-1" strike="noStrike">
                <a:solidFill>
                  <a:srgbClr val="ebd189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004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e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eam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e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que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5120" y="2286000"/>
          <a:ext cx="6095880" cy="3286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hind every invention is a good idea.  Everybody has good ideas.  How do inventors turn good ideas into inventions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quea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deep sleep after the par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l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fter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ar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leave with the tea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ea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th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easy to re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teeth feel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e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ound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05120" y="2209680"/>
          <a:ext cx="6359400" cy="4246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ou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03" name="Picture 2" descr="http://tbn0.google.com/images?q=tbn:XylQSLCjIHyevM:http://www.magnation.com/product-enlarged/22ed49fb7ff754e963f67c310e5828d5/Rhodia-Le-Bloc-Notebook-A4-Side-Wired-Bound--Orange--A4-Lined-Marg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1244520" cy="1447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ttp://tbn3.google.com/images?q=tbn:C0-n51N9UmassM:http://www.dogbreedinfo.com/images19/BassettHoundBandit2Yea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828800"/>
            <a:ext cx="1708200" cy="1295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http://tbn2.google.com/images?q=tbn:U8uSWXE6pecUTM:http://www.schs1979.org/photos/Mound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82880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http://tbn0.google.com/images?q=tbn:x-pEvdGkIlZxpM:http://www.freeclipartnow.com/d/30378-1/british-pound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4114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ttp://tbn2.google.com/images?q=tbn:91cSzhGlOvTPyM:http://www.notderbypie.com/wp-content/uploads/2009/03/olive-oil-pound-cake-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38480"/>
            <a:ext cx="990360" cy="1470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6" descr="http://tbn3.google.com/images?q=tbn:-NSHpOx-asf4yM:http://www.getfitsource.com/images/8-Pound-Dumbbel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91120" y="41911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8" descr="http://tbn2.google.com/images?q=tbn:M606ggk0G9EayM:http://i222.photobucket.com/albums/dd10/tagblog/merry_go_round-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486400" y="4114800"/>
            <a:ext cx="1828800" cy="1378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http://tbn2.google.com/images?q=tbn:9076NybyGnEw-M:http://www.cortland.edu/flteach/mm-course/sound6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086600" y="1905120"/>
            <a:ext cx="1666800" cy="106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http://tbn2.google.com/images?q=tbn:KtrizlVMbdnxgM:http://www.supremewatersales.com/shoppingcart/images/PolyWoundCartridge2x9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620120" y="4038480"/>
            <a:ext cx="1276200" cy="1524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6"/>
          <p:cNvSpPr/>
          <p:nvPr/>
        </p:nvSpPr>
        <p:spPr>
          <a:xfrm>
            <a:off x="1379520" y="3200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3208320" y="31240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5265000" y="31240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5" name="TextBox 19"/>
          <p:cNvSpPr/>
          <p:nvPr/>
        </p:nvSpPr>
        <p:spPr>
          <a:xfrm>
            <a:off x="7399080" y="297180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1303560" y="5257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2827440" y="548640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k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4275360" y="5257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6026040" y="5486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r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7857000" y="55627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</a:t>
            </a:r>
            <a:r>
              <a:rPr b="0" lang="ja-JP" sz="4400" spc="-1" strike="noStrike">
                <a:solidFill>
                  <a:srgbClr val="ebd189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infor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entert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convi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reader to think or act in a certain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you read, think about what the story is ab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about why the author wrote the sto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tory Structure: 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  Setting, Characters, and Plot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read a story, think about where a story takes place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ett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who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in the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haracte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and what happens in the beginning, middle, and end of a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l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about what happen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a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story. Keeping track of what happens in order helps you understand the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0512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hind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every invention is a good idea. 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body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has good ideas.  How do inventors turn good ideas into inventions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gh-Frequency Word Re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2895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roug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gu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robo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a machine with moving parts that is controlled by a compu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wad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– a round lump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rash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something of little u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electricity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energy that makes light, heat, motion, or fo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97c01"/>
                </a:solidFill>
                <a:uFillTx/>
                <a:latin typeface="Arial"/>
                <a:hlinkClick r:id="rId6" action="ppaction://hlinksldjump"/>
              </a:rPr>
              <a:t> next slid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robo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33" name="Picture 2" descr="http://tbn0.google.com/images?q=tbn:cSjgNzskEha5LM:http://www.psychologytoday.com/files/u45/robo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1523880"/>
            <a:ext cx="1981080" cy="2884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http://tbn0.google.com/images?q=tbn:X4Noh3i2viPwkM:http://www.geekologie.com/2007/12/03/robot-war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2971800"/>
            <a:ext cx="2705040" cy="1981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http://tbn3.google.com/images?q=tbn:IPT73m_EAVK0vM:http://www.army-technology.com/contractor_images/i_robot/i_robot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962520"/>
            <a:ext cx="1739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w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37" name="Picture 2" descr="http://tbn2.google.com/images?q=tbn:XlJa71V2WMEICM:http://www.mediabistro.com/agencyspy/original/cash-w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http://tbn3.google.com/images?q=tbn:WCRnNcW6UIarLM:http://www.istockphoto.com/file_thumbview_approve/930534/2/istockphoto_930534_wad_of_pap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47920" y="1905120"/>
            <a:ext cx="30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ras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40" name="Picture 2" descr="http://tbn2.google.com/images?q=tbn:pttuMjeHm75l0M:http://www.psychologytoday.com/files/u107/tras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438280"/>
            <a:ext cx="4876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electric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42" name="Picture 4" descr="http://tbn0.google.com/images?q=tbn:eRBkhT126yHKwM:http://www.how-things-work-science-projects.com/images/lightening_500x33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057400"/>
            <a:ext cx="2303640" cy="1523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tbn3.google.com/images?q=tbn:TXDr8nof3DYBqM:http://www.freefoto.com/images/13/67/13_67_56---Electricity-Substation_web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18288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tbn2.google.com/images?q=tbn:mU-yGKKX1-lfKM:http://rlv.zcache.com/electricity_poster-p228728887348279244trma_400.jpg">
            <a:hlinkClick r:id="rId6"/>
          </p:cNvPr>
          <p:cNvPicPr/>
          <p:nvPr/>
        </p:nvPicPr>
        <p:blipFill>
          <a:blip r:embed="rId7"/>
          <a:srcRect l="9997" t="0" r="9997" b="0"/>
          <a:stretch/>
        </p:blipFill>
        <p:spPr>
          <a:xfrm>
            <a:off x="2819520" y="42670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http://tbn1.google.com/images?q=tbn:wQ9BfM4BdgE5cM:http://www.mondovista.com/electric.cancer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00200" y="1752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http://tbn3.google.com/images?q=tbn:Q2jz3_Ha9ay1wM:http://www.atmospheric-electricity.org/images/Electricity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38680" y="4724280"/>
            <a:ext cx="2171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Vocabulary Words:</a:t>
            </a:r>
            <a:br>
              <a:rPr sz="40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robot, wad, trash, electric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_____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ob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____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ra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____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w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____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lectric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will ete soup for lunch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will eat soup for lunch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lik a lot of chease on it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like a lot of cheese on i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oys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catch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he b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catch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the boys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y 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we will hear a story about how inventors turn ideas into inven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12-01T18:35:15Z</dcterms:modified>
  <cp:revision>55</cp:revision>
  <dc:subject/>
  <dc:title>Slide 1</dc:title>
</cp:coreProperties>
</file>